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8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9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36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30.pct" ContentType="image/x-pict"/>
  <Override PartName="/ppt/media/image3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9F7B-ACF2-44D2-B3A2-E4C50A338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Carboxylic_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yellowtang.org/chemistry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lifetime-fitness.ca/pages/meet-our-trainers/trainer-tips--nutritiona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bioprop/glucos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ansfield.osu.edu/~sabedon/biol1020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, maltose (malt sugar used in making beer), lactose (in milk)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merthehammer.com/2010/12/04/understanding-ingredient-labels-todays-tip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carbs_lipids_proteins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.nicerweb.com/Locked/media/ch05/polysaccharid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.nicerweb.com/Locked/media/ch05/polysaccharid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Covalent_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utrition.jbpub.com/resources/chemistryreview9.c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erendip.brynmawr.edu/exchange/wfrankli/mycologydemys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herdaily.com/health/892/the-effects-of-food-additives-and-preservative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page.smc.edu/wissmann_paul/anatomy2textbook/phospholipid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edicine-opera.com/2009/07/trans-fats-big-brother-and-sloppy-scie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mpseysresolutionfitness.blogspot.ca/2010/09/trans-fat-truth-myth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igiwax.com/wax-basics/overview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bl.gov/MicroWorlds/Kevlar/KevlarClue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teach.ubc.ca/Bio-industry/Inex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s from: http://en.wikipedia.org/wiki/File:Cholesterol_structure.png and http://commons.wikimedia.org/wiki/File:Testosterone_structure.pn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eautifulactivenourished.com/nutrition/combining-food-for-optimum-digestion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hbrainsandbeauty.com/page/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ee also Figure 2 (p.40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octortee.com/dsu/tiftickjian/bio100/biol-molecul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cademic.pgcc.edu/~ssinex/blt/proteins/proteins.htm</a:t>
            </a:r>
            <a:br>
              <a:rPr sz="300"/>
            </a:b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show dehydration synthesis in formation of peptide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umass.edu/molvis/workshop/prot1234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ioc208.blogspot.com/2009_11_01_archiv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shuttervoice.com/15497/sickle-cell-anemia-awareness-campaig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cademic.brooklyn.cuny.edu/biology/bio4fv/page/nonpol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towler.com/taxonomy/term/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politicaltimes.org/img/original/DNA5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un.ca/biology/scarr/Ribose_suga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s (purines &amp; pyrimid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.arizona.edu/biochemistry/problem_sets/large_molecules/06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oprofs.com/flashcards/cardshowall.php?title=exam-5-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and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eltina.org/health-dictionary/rna-ribonucleic-acid-definition-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entchemistry.com/links/bonding/moleculePolari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entchemistry.com/links/bonding/moleculePolari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rushapchem.wikispaces.com/C+Chapter+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554-0681-4198-99A0-DDD2C3C2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506-8B28-466E-8C6A-AA33B97D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9DC-E315-405B-80AD-6D6DA55F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E93-4017-4369-8266-E2AECD31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4D6-7885-46E3-AE50-D4DB6FE7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A52-A5A2-4527-907C-2DFABB0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8E2-09CB-48F4-BDB0-46BF2F05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859-FBAD-46E0-AF93-E8C6796A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C77-59F2-4C47-9DCC-7D1A1467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38C-AF02-4285-84C8-53335CAD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E01-8E1B-4FDC-ABEE-EC2CD3FA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CD1-C8F4-42A7-9118-D827FAEB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D88F-8580-4958-BFA0-EE5D26E50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yDnnD3fMaU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xF_LK9pnL0" TargetMode="External"/><Relationship Id="rId2" Type="http://schemas.openxmlformats.org/officeDocument/2006/relationships/hyperlink" Target="http://www.youtube.com/watch?v=3xF_LK9pnL0" TargetMode="External"/><Relationship Id="rId3" Type="http://schemas.openxmlformats.org/officeDocument/2006/relationships/hyperlink" Target="http://www.youtube.com/watch?v=3xF_LK9pnL0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-ctkPUUpUc&amp;feature=channel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3C - Cellular 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unctional group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specific clusters of atoms that give compounds specific chemical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2554200"/>
            <a:ext cx="38098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 are primarily used by living organisms as a source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652840"/>
            <a:ext cx="3809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est type of carbohydrate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sacchar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single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glucose, fructose, galact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2062080"/>
            <a:ext cx="3809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nosaccharides may bond together to form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cchar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double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ucrose, lactose, malt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yDnnD3fM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ga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62120" y="1981080"/>
            <a:ext cx="401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s are insoluble in water when they form long chains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sacchar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lso called complex carbohydr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tarch, glycogen, cellulose, chi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48320" y="2354400"/>
            <a:ext cx="38098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718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arge molecule that is composed of long chains of repeating subunit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m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glycogen is a polymer of glucose mon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ch &amp; Glyc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ch and glycogen are forms of energy storage in plants an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for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val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y sharing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46680" y="1981080"/>
            <a:ext cx="341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llulo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glucose polymer found in cell wa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790720"/>
            <a:ext cx="38098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t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polysaccharide found in the exoskeletons of insects and crustaceans, as well as in mushro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6560" y="3352680"/>
            <a:ext cx="7594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ids are used by animals as major energy-storage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ids are insoluble in water and aqueous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05200" y="1981080"/>
            <a:ext cx="369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4 main types of lipi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s an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s and F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s and fats are composed of lipid molecule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glyce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iglyceride contains glycerol + 3 fatty acid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youtub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com/watch?v=3xF_LK9pn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648320" y="2446200"/>
            <a:ext cx="3809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ated F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fatty acids have only single bonds between carbo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at room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by many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play a part in development of clogged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aturated F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turated fatty acids have one or more double bonds between carbo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ils at room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by some plants 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Fa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38560" y="1981080"/>
            <a:ext cx="446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Fa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70080" y="1981080"/>
            <a:ext cx="480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used by plants and some animals as waterproof coating (animal fur, plant leav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electrons are not shared equally, the bond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ar covalent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has a partial negative charge in the O-H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87800" y="1981080"/>
            <a:ext cx="312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in structure to triglyce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in the structure of cell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2216160"/>
            <a:ext cx="38098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ids (Stero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d of four carbon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include sex hormones  testosterone and estradiol, and ch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116080"/>
            <a:ext cx="3809880" cy="1709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18040" y="4114800"/>
            <a:ext cx="3070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are used for many different functions and structures, but all have the same basic structure: they are polymers of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2657520"/>
            <a:ext cx="3809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20 different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are essential (they cannot be synthesized in the human body and must be obtained from our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2763720"/>
            <a:ext cx="3809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tide Bond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-ctkPUUpUc&amp;feature=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2409840"/>
            <a:ext cx="77724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nal protein has a specific 3-D structure that is important for its func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protein synthesis, a mistake in the sequence of amino acids will cause the wrong protein to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Hemogl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46440" y="1981080"/>
            <a:ext cx="544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a change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amino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ne of the 4 polypeptide ch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71960" y="198108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electrons are shared equally, the bond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polar covalent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partial negative or positive charges in the C-H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2189160"/>
            <a:ext cx="38098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Den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roteins are subjected to high temperatures, or are exposed to very acidic, basic, or salty environments, they can lose their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dena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speed up (catalyze) almost every reaction that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 such as insulin act as chemical messe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such as collagen give structural support to bones, cartilage, and ten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ic acids are long chains (polymers)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2 types of nucleic acids in organisms:  DNA (deoxyribonucleic acid) and RNA (ribonucleic ac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oxyribose &amp; Rib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2882880"/>
            <a:ext cx="77724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46160" y="1981080"/>
            <a:ext cx="524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70200" y="609480"/>
            <a:ext cx="5403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can be polar depending on the polarity of the bonds, as well as their 3-D arrangement in the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2884320"/>
            <a:ext cx="38098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are attracted to other molecules by a group of weaker force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molecular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ongest intermolecular bond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70000" y="1981080"/>
            <a:ext cx="680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originally the chemistry of compounds produced by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organic compounds contain carbon and hydrogen, and usually other elements such as nitrogen, sulfur and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organic molecules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major groups of biologically important macromolecul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2-09-21T10:24:40Z</dcterms:modified>
  <cp:revision>215</cp:revision>
  <dc:subject/>
  <dc:title>Organic Chemistry</dc:title>
</cp:coreProperties>
</file>